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779A-97EF-431C-9A69-B6820C3F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1D29-7413-4F84-97C2-868370DF305B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079F-5086-424A-B2E2-C3D2B1354F19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66B7-F999-4D65-974D-0EA4B5DBCB86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5C3E-0E92-450C-BB78-7CC8C6856DFA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39D0-5FBE-4B6C-B08B-F43DB6C40284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A8B1-126B-42F3-B297-E1F868723F3E}" type="slidenum">
              <a:rPr b="0" lang="en-US" sz="1200" spc="-1" strike="noStrike">
                <a:solidFill>
                  <a:srgbClr val="b3b3b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EAE-170E-44E7-AE53-D0C3BB1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85C2-786D-488F-B9C9-B462B8C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CFF-8CD2-4D52-A5EB-7CF038DC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055-9FD8-4FF1-959F-1CFF9068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A650-6747-47B3-85A2-562FE635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15B8-2B1D-400E-BFFE-E5731B6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5BB0-8C73-47F7-A6A6-E7ADE1C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2AD5-B25D-4084-85E7-10758344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CA4F-1A6E-43FE-9B20-493A027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35D8-4409-4816-91B1-0BF5753F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BE02-3160-4F35-88D7-DD2FE6C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7D9-1256-4E47-9AAA-F85DAAA6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F8DA-88CB-49E9-84B6-A70DB0D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E602-05CB-4489-9EAA-192BFA4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E734-E298-4A81-9BC2-D8AED24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3FD-68DB-4B83-9861-765609B8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B278-A0CC-456A-BB45-2556F7A3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95A-238A-4B83-B206-25DC9C7C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887-C93A-47B3-962B-C8F8C95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2DE-F727-4B79-91C8-791AB058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90B-15BE-49D5-B81C-8448366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794-4BF4-4115-AD47-FCF70321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907-8277-47E2-9D0B-ED8E35E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C1C-FF9D-48DA-ADCB-968865D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jellyfishsmall"/>
          <p:cNvPicPr/>
          <p:nvPr/>
        </p:nvPicPr>
        <p:blipFill>
          <a:blip r:embed="rId2"/>
          <a:srcRect l="12136" t="19398" r="47694" b="0"/>
          <a:stretch/>
        </p:blipFill>
        <p:spPr>
          <a:xfrm>
            <a:off x="6515280" y="3200400"/>
            <a:ext cx="2628720" cy="35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AF4-181E-436D-A226-B9C585F83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jellyfish"/>
          <p:cNvPicPr/>
          <p:nvPr/>
        </p:nvPicPr>
        <p:blipFill>
          <a:blip r:embed="rId2"/>
          <a:srcRect l="0" t="0" r="10933" b="0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3b3b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2AEC-D433-4752-9098-1CDF34CA5169}" type="slidenum">
              <a:rPr b="0" lang="en-US" sz="1400" spc="-1" strike="noStrike">
                <a:solidFill>
                  <a:srgbClr val="b3b3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Variables and Expression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Lesson 2-2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38080" y="1752480"/>
            <a:ext cx="7543800" cy="13816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b3b3b3"/>
                </a:solidFill>
                <a:latin typeface="Times New Roman"/>
              </a:rPr>
              <a:t>numerical expression 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is a mathematical phrase with only numbers and operation symbols (+,  -,  x,  ÷)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Example: 8 + 5 - 2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838080" y="3429000"/>
            <a:ext cx="75438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b3b3b3"/>
                </a:solidFill>
                <a:latin typeface="Times New Roman"/>
              </a:rPr>
              <a:t> algebraic expression 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 is a mathematical phrase that contains a </a:t>
            </a:r>
            <a:r>
              <a:rPr b="0" lang="en-US" sz="2400" spc="-1" strike="noStrike" u="sng">
                <a:solidFill>
                  <a:srgbClr val="b3b3b3"/>
                </a:solidFill>
                <a:uFillTx/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 and operation symbols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38080" y="4724280"/>
            <a:ext cx="7543800" cy="13816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b3b3b3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 is a symbol (usually a letter) that stands for a number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Algebraic expression:  5y + 2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valuating Numerical Expression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2600" y="201780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Use PEMDAS (order of operations)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905120" y="27432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84 – 10 ÷</a:t>
            </a:r>
            <a:r>
              <a:rPr b="0" lang="en-US" sz="6600" spc="-1" strike="noStrike">
                <a:solidFill>
                  <a:srgbClr val="b3b3b3"/>
                </a:solidFill>
                <a:latin typeface="MS Shell Dlg"/>
              </a:rPr>
              <a:t> 2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895480" y="38098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84 – 5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505320" y="4876920"/>
            <a:ext cx="121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79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valuating Algebraic Expression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Replace the variable with the value that you are given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Now we have a numerical expression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olve using order of operations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xample: Evaluate 2b-8 for b=11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8120" y="16765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2b-8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438280" y="2743200"/>
            <a:ext cx="312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2(11)-8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867280" y="3048120"/>
            <a:ext cx="29718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Substitute the 11 for the variable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867280" y="4114800"/>
            <a:ext cx="29718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Times New Roman"/>
              </a:rPr>
              <a:t>Multiplying comes before subtracting.</a:t>
            </a:r>
            <a:endParaRPr b="0" lang="en-US" sz="24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14600" y="396252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22 - 8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00400" y="49528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14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xample 2: Evaluate 5x-y for x=12 and y=14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76720" y="205740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5x-y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819520" y="304812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5(12) - 14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426708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60 - 14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733920" y="53341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3b3b3"/>
                </a:solidFill>
                <a:latin typeface="Times New Roman"/>
              </a:rPr>
              <a:t>46</a:t>
            </a:r>
            <a:endParaRPr b="0" lang="en-US" sz="6600" spc="-1" strike="noStrike">
              <a:solidFill>
                <a:srgbClr val="b3b3b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40:21Z</dcterms:created>
  <dc:creator>Josh Hammond</dc:creator>
  <dc:description/>
  <dc:language>en-US</dc:language>
  <cp:lastModifiedBy>Home</cp:lastModifiedBy>
  <dcterms:modified xsi:type="dcterms:W3CDTF">2010-11-14T17:21:43Z</dcterms:modified>
  <cp:revision>13</cp:revision>
  <dc:subject/>
  <dc:title>Variables and Expressions</dc:title>
</cp:coreProperties>
</file>